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5BB-F8B8-4562-8671-E010E965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CA6-4CC5-4050-950D-4EBDA91B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C9B-46EB-432B-926C-CA7D3186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9CA-6D17-4D89-9935-84BFAE70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555-4D1C-4F73-8095-635C9739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C91-671F-4E47-B3A6-ADB5C94E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F7D-2187-4513-9F06-0D8E9805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FB1-7020-4830-9822-D4C8538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F9B-7395-475A-A085-16C1293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EA7-88A2-46D3-A581-984E5EC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3D-4372-4B18-81FD-406E3A4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4F9-3645-445A-BCC0-4A71503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03B-038A-4748-9DC1-FC49C6B8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847880" cy="303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3121200" y="3803760"/>
            <a:ext cx="1334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preneurs along with capitalism make up a new business class devoted to making profi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Out” or “Cottage Industr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863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repren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16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980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pening of trade routes had economic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ences in Europe and their 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ise of prices coupled with sharp increase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mount of money is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1500’s, prices begin to ris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lot more money in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more peop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 in European history when inflation rose rapidly is known a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ce revol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was fueled by the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il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gold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Amer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Tulipmania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s-tulip"/>
          <p:cNvPicPr/>
          <p:nvPr/>
        </p:nvPicPr>
        <p:blipFill>
          <a:blip r:embed="rId1"/>
          <a:stretch/>
        </p:blipFill>
        <p:spPr>
          <a:xfrm>
            <a:off x="6400800" y="3352680"/>
            <a:ext cx="25052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system in which most businesses are privately ow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italists can take more risks because of their re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ed to the creation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tr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money sup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sh for overseas emp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pit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ajor compon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preneur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uys that take the financial risks in the hopes of making pro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ed, managed, and assumed the risk of doing busi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▫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red workers and paid for raw materials and transportation cos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2:02:48Z</dcterms:created>
  <dc:creator>Will Daly</dc:creator>
  <dc:description/>
  <dc:language>en-US</dc:language>
  <cp:lastModifiedBy>shoyer</cp:lastModifiedBy>
  <dcterms:modified xsi:type="dcterms:W3CDTF">2007-11-12T12:53:28Z</dcterms:modified>
  <cp:revision>24</cp:revision>
  <dc:subject/>
  <dc:title>Slide 1</dc:title>
</cp:coreProperties>
</file>